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929-7379-4497-AAE8-C2274DF4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DE5-1622-4DF4-8313-39C4757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EA3-2835-4FD8-9E4B-7652676E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444-0534-454C-82D0-E8E05884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0D5-8139-48B0-9A25-B32042F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F58-603D-4FD6-ADAD-8213EFC1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83D-E00E-4E36-8BBA-10FB2E7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6A8-8BE5-43B8-A502-AAEFD483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C17-FB33-47F1-AC30-8519EBA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539-2E28-4F30-B23B-827F38F3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F5C-DBA8-42AA-A1BD-C11D7705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215-0CDB-4789-9E29-63DB5A4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5F4-9723-4275-BA23-9E72A702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toa_in_Athens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en.wikipedia.org/wiki/File:Greek_street_-_III_century_BC_-_Porta_Rosa_-_Velia_-_Italy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PHAROS2006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2/United_States_Capitol_-_west_front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ce’s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 were made of wood, plaster, limestone, terracotta, metals, and mar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atching for roo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 were originally simple, the prog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es are the best known Greek 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phi is an example of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a of Att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cobb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657600"/>
            <a:ext cx="312408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4572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reek street - III century BC - Porta Rosa - Velia - Ital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4648320"/>
            <a:ext cx="196236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2000" cy="53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43480" y="0"/>
            <a:ext cx="3800520" cy="441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light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ree stages of architecture. Ionian, Doric, Corinth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he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mple of Athena Parthenos ("Virgin"), Greek goddess of wisdom, on the Acropolis in Athe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polis is a temple on the top of the hill, high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PHAROS20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762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Doric Style"/>
          <p:cNvPicPr/>
          <p:nvPr/>
        </p:nvPicPr>
        <p:blipFill>
          <a:blip r:embed="rId4"/>
          <a:stretch/>
        </p:blipFill>
        <p:spPr>
          <a:xfrm>
            <a:off x="5486400" y="31240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onic Style"/>
          <p:cNvPicPr/>
          <p:nvPr/>
        </p:nvPicPr>
        <p:blipFill>
          <a:blip r:embed="rId5"/>
          <a:stretch/>
        </p:blipFill>
        <p:spPr>
          <a:xfrm>
            <a:off x="6705720" y="3124080"/>
            <a:ext cx="1009440" cy="1514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rinthian Style"/>
          <p:cNvPicPr/>
          <p:nvPr/>
        </p:nvPicPr>
        <p:blipFill>
          <a:blip r:embed="rId6"/>
          <a:stretch/>
        </p:blipFill>
        <p:spPr>
          <a:xfrm>
            <a:off x="7924680" y="3124080"/>
            <a:ext cx="95256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24280" y="31240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rthenon"/>
          <p:cNvPicPr/>
          <p:nvPr/>
        </p:nvPicPr>
        <p:blipFill>
          <a:blip r:embed="rId7"/>
          <a:stretch/>
        </p:blipFill>
        <p:spPr>
          <a:xfrm>
            <a:off x="5410080" y="47242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ile:Acropolis3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 &amp;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how we connected to the Gree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United States Capitol - west fro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57400"/>
            <a:ext cx="4343400" cy="22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WhiteHouseSouthFacade.JPG"/>
          <p:cNvPicPr/>
          <p:nvPr/>
        </p:nvPicPr>
        <p:blipFill>
          <a:blip r:embed="rId4"/>
          <a:stretch/>
        </p:blipFill>
        <p:spPr>
          <a:xfrm>
            <a:off x="4724280" y="1676520"/>
            <a:ext cx="4114800" cy="300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JeffersonMemorialAutumnTidalBasin.jpg"/>
          <p:cNvPicPr/>
          <p:nvPr/>
        </p:nvPicPr>
        <p:blipFill>
          <a:blip r:embed="rId5"/>
          <a:stretch/>
        </p:blipFill>
        <p:spPr>
          <a:xfrm>
            <a:off x="1295280" y="4349880"/>
            <a:ext cx="34290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42:06Z</dcterms:created>
  <dc:creator>jobert</dc:creator>
  <dc:description/>
  <dc:language>en-US</dc:language>
  <cp:lastModifiedBy>jobert</cp:lastModifiedBy>
  <dcterms:modified xsi:type="dcterms:W3CDTF">2014-04-02T15:56:06Z</dcterms:modified>
  <cp:revision>3</cp:revision>
  <dc:subject/>
  <dc:title>Greece’s Buildings</dc:title>
</cp:coreProperties>
</file>